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4164-C636-4053-8E17-6092BB369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2350-243C-4756-B5EB-64F910C9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3946-81E5-4E81-92FB-741AE5417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2924-5616-467B-86B8-1E6D2F1B7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39E9-B08B-47EE-8A87-D3DD333E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425A-5CE2-4835-A98A-5FFD2388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9483-B1C5-4C8D-8EDE-1DC12652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A7CB-8C62-4CB4-844C-A69EBFFB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8C9A-D714-4D9B-BF50-016554C8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4D6D-EAB4-427A-8163-CADE350B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A752-9A9A-4BEC-ACA5-4BB75A70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827F-4C5A-4407-9995-77D413FE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3a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654B-9BC1-4BBA-BAC9-D6D3D22EF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3a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ber the St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is Low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3a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the Nazis knowing, all of the dogs lost their sm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f the Jews were saved because of Pete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1640" y="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for the Rosens, they moved back safely and lived in pea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learn more about the Jews’ escapes, go to  http://www.auschwitz.dk/Denmark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80880" y="2895480"/>
            <a:ext cx="4191120" cy="3449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105520" y="5197320"/>
            <a:ext cx="157464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3a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is Low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is Lowry was born on March 20, 193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began her career as a photographer, and a free journalist during the 1970’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24280" y="16002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is a children’s literature writer and American auth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257800" y="3219480"/>
            <a:ext cx="291924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3a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 B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her most famous books is The Giver, which she wrote in 199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also wrote A Summer to Die in 197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0024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the Stars, which she wrote in 1990, is awarded the Newberry Gold along with The Gi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3933720"/>
            <a:ext cx="1781280" cy="2924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952880" y="3933720"/>
            <a:ext cx="17240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3a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et The Charact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emarie Johansen is a ten-year-old girl living in Copenhagen. She lives with her mother, Inge, and her father and her five-year-old sister, Kirs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emarie’s best friend, Ellen Rosen, lives next door with her mother, Sophie, and her fa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3760" y="685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e, is Annemarie’s older sister who died a few years back in the w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e’s ex-fiancé, Peter, is an idol to Annemarie. He is mostly not a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rik is Inge’s br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g Christian X is the king of Denmar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9880" y="4343400"/>
            <a:ext cx="1876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3a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enhagen, Denm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enhagen is the biggest city in Denmark. The story takes place in a little city right outside of Copenhagen. It is a small, urban area of land that expands next to the oce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029200" y="3933720"/>
            <a:ext cx="38955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3a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zis are killing all of the Jewish families, so Ellen’s family must hide. They both try to act normal as the Nazis take over King Christian and his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blem with the Rosen’s hiding is the Nazis start to search every apartment room for the Je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Mr. and Mrs. Rosen move away until the war is over, Ellen becomes Lise Johans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learn more about Number the Stars, go to http://en.wikipedia.org/wiki/Number_the_stars#Plot_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3a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J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ing a Jew, they were under a lot of pressure and dang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what did they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sen’s went to the Johansens for help. Peter made special handkerchiefs that had the smell of meat, but made you lose your sense of sme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ews started hiding in the bottom of boats, and the Nazis couldn’t find any of th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azis started to bring dogs along to smell out the J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each captain had a handkerchief, so the dogs would lose their sme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3a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azis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azis can’t find the Rosen’s anywhere. Since they have a chart of the people living in Annemarie’s apartment, they figured out that the Johansen’s and Rosen’s are frien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3760" y="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azis get suspicious and go to the Johansen’s and find Mamma, Papa, Annemarie, Kirsti, and Lis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made the Nazis easily find out that the Rosen’s had moved away to hi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191120" y="4535640"/>
            <a:ext cx="419076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3a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-360" y="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the Nazis search the Johansens, they are suspicio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s. Johansen thinks that its too risky to go to school, so they go to their Uncle Henry’s hou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38480" y="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ry is a fisherman, so he leaves his house at 5 am and gets back around 5 p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ry inherits his mother’s house, so Mrs. Johansen tells the kids about many memor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143680" y="3933720"/>
            <a:ext cx="40003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7:59:24Z</dcterms:created>
  <dc:creator>USC/ISI</dc:creator>
  <dc:description/>
  <dc:language>en-US</dc:language>
  <cp:lastModifiedBy>GINA VINCENT</cp:lastModifiedBy>
  <dcterms:modified xsi:type="dcterms:W3CDTF">2009-11-18T05:38:01Z</dcterms:modified>
  <cp:revision>6</cp:revision>
  <dc:subject/>
  <dc:title>Number the Stars</dc:title>
</cp:coreProperties>
</file>